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E0D-43F1-4A05-AD13-30774BC7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: if genes are located on separate chromosomes, they will be inherited independently of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reuniversity.grkraj.org/html/9_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utorvista.com/topic/how-to-double-cros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utorvista.com/biology/dihybrid-cross-calculato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unnett_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248-0C86-4187-8E75-4F30A7EE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290-A6D5-47E7-927B-90583E9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F4A-0B3D-42F4-8AE8-0A2D8465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77B-8111-4BD8-A656-9FA51E3D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874-E7D6-4BD9-A2A9-02567FF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443-81ED-432D-94ED-86C0D40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027-2D17-4DA4-9CB4-5E7941FC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A44-D495-4EAC-84E4-9D03783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B0D-4D80-40A8-AC52-635504CB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433-E4AE-4CF1-87DC-0DB3589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EBE-B17F-4796-80E1-322799C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E03-A752-41AB-821B-61257EC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D5A4-ED73-4643-AB4E-D472A0C6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trait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e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Practice #1 on page 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’s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also studied the inheritance of 2 separate trai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8240" y="1981080"/>
            <a:ext cx="47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round yellow seeds is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green wrinkled seeds i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 - 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62200" y="1981080"/>
            <a:ext cx="56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enotype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/16 yellow,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6 yellow, wrink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6 green,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 green, wrink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doing one large Punnett square, you could do Punnett squares for each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probabilities of each trait to get your phenotyp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62080" y="609480"/>
            <a:ext cx="681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39:20Z</dcterms:created>
  <dc:creator>rubina khan</dc:creator>
  <dc:description/>
  <dc:language>en-US</dc:language>
  <cp:lastModifiedBy>rubina khan</cp:lastModifiedBy>
  <dcterms:modified xsi:type="dcterms:W3CDTF">2013-03-25T04:44:45Z</dcterms:modified>
  <cp:revision>39</cp:revision>
  <dc:subject/>
  <dc:title>Genetic Processes</dc:title>
</cp:coreProperties>
</file>